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6617-06FB-49C1-BA90-49B9BF8F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4F3C-03FD-498E-A951-0CABFB68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970-8DF9-42D6-B51A-27F17F7C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E649-0237-4D6F-BD93-9CDC5B27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22DD-9424-4DC0-94BB-FEB3C8FD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9D37-8D47-466B-AD93-9B6A8925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5D7-6BEC-44FB-ADA7-5D4E5614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BFEF-530B-4011-ACE5-D0F7BE69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23E-ACD7-4B20-A65E-E2E6F72B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965E-D944-4504-ABE7-BA428055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D98-4B81-4508-B261-62CD3A05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D6B-9C45-400C-A7C6-46637ABB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1E03-3C48-47DC-9BC8-F141DE4F944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00" y="1484280"/>
            <a:ext cx="49687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3.5 Values and Social Change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371920" cy="429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90400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t looking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5256360" cy="3167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63374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emale participation rates have climbed from 38% (1970) to 50% (1980) and to 58% (1992) to 63% (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ciologists have concluded that the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ldwide increase in female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cipation rates are caus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05952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900080" y="1900080"/>
            <a:ext cx="5840640" cy="397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↑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ate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5256000" cy="3889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763640" y="2565360"/>
            <a:ext cx="2687760" cy="293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5580000" y="2421000"/>
            <a:ext cx="2551320" cy="307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61672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Pluralism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000000"/>
                </a:solidFill>
                <a:latin typeface="Stencil"/>
              </a:rPr>
              <a:t>Singu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elief that everyone in society should act and think the same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UY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dian Society </a:t>
            </a:r>
            <a:r>
              <a:rPr b="0" lang="es-UY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s on </a:t>
            </a:r>
            <a:r>
              <a:rPr b="1" lang="es-UY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ralism</a:t>
            </a:r>
            <a:r>
              <a:rPr b="0" lang="es-UY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      </a:t>
            </a:r>
            <a:r>
              <a:rPr b="0" lang="es-UY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UY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sive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mployment Equi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ystemic Discr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ystem exists that favours one or some groups over the others in terms of hiring, benefits, promotions and pay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Content Placeholder 2" descr=""/>
          <p:cNvPicPr/>
          <p:nvPr/>
        </p:nvPicPr>
        <p:blipFill>
          <a:blip r:embed="rId1"/>
          <a:stretch/>
        </p:blipFill>
        <p:spPr>
          <a:xfrm>
            <a:off x="457200" y="1579680"/>
            <a:ext cx="8229600" cy="4546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3102120" cy="2721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3"/>
          <a:stretch/>
        </p:blipFill>
        <p:spPr>
          <a:xfrm>
            <a:off x="4788000" y="907920"/>
            <a:ext cx="2500200" cy="270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1403280" y="4041720"/>
            <a:ext cx="2224080" cy="226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5"/>
          <a:stretch/>
        </p:blipFill>
        <p:spPr>
          <a:xfrm>
            <a:off x="5867280" y="4041720"/>
            <a:ext cx="280836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mployment Equi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le racial minorities, aboriginal, and people physically or mentally challenged continue to run into barriers associated with discrimination, white women have made head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mployment Equi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ignificant step was in 1986 when Employment Equity Act was pa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s purpose was to tackle systemic discri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 identifies four target gro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mployment Equi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mployment Equi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763640" y="1962000"/>
            <a:ext cx="6264360" cy="3988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mployment Equi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908000" y="1533600"/>
            <a:ext cx="619308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mployment Equi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238480" y="1916280"/>
            <a:ext cx="5286240" cy="407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mployment Equi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 requires that employers develop policies the target groups with workplace equity by hiring goals for each target group (federally regulated indust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other feature of the act was to provide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equal pay for work of equal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mployment Equi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s means that job classifications must be compared for the skills they require, their responsibilities, working conditions and the work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 jobs scoring equally according to these categories must be paid at the same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luralism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lur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despread acceptance of differ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627280" y="2852640"/>
            <a:ext cx="4537080" cy="2833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nvironment and Soci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minant Paradig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umans have a duty to create material wealth to make this and future generations richer, and a right to dominate, change or even corrupt the natural world in order to do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elieved by most in industry an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nvironment and Soci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lternative Environmental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Rejects dominant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ociety must place a higher importance on non-material values, encourage stronger communities built on better personal relationships, and act with a greater respect for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luralism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763640" y="1905120"/>
            <a:ext cx="6193080" cy="346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luralism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75272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luralism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festy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826920" y="1582560"/>
            <a:ext cx="3299040" cy="328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4970520" y="1268280"/>
            <a:ext cx="362268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luralism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clus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 law abiding people, regardless of their particular background or circumstances, should be able to play a constructive role in the life of the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istorically in Canada women had lower participation rates in the work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cipation rate calculated by the %of a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cular age group (16-64) available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 paid work who are actively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mployed in the paid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ypically over 80% of men participate in the pai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remainder are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2819520" cy="2954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Jason</cp:lastModifiedBy>
  <dcterms:modified xsi:type="dcterms:W3CDTF">2010-11-02T15:01:29Z</dcterms:modified>
  <cp:revision>46</cp:revision>
  <dc:subject/>
  <dc:title>Diapositiva 1</dc:title>
</cp:coreProperties>
</file>